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95FA-B2EB-4CF2-915B-5D5CDF289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38D2-D71F-410A-B88F-E48793D5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1731-2474-4155-AC49-F0340B2C2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7B3C-1160-4117-9EC1-8C892DCD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0858-E4A6-4FE2-9982-832BC6EA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BEE0-CF29-4BCF-B6C7-A2B390C7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489D-DDCA-4C44-913D-3F45B1DF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9D29-3CE7-453F-902C-E7BE2B86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EFB0-99A5-4DE2-BA50-50299129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F955-586F-432D-86AC-CF5F3615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CEA4-9AE3-443B-B6CA-B1D0B3ED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775C-B287-471A-B500-B2F11AF1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DFC2-5230-4C43-82A2-4BE577A6C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404640"/>
            <a:ext cx="2737080" cy="187200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4149720"/>
            <a:ext cx="2737080" cy="187164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4149720"/>
            <a:ext cx="2736720" cy="1871640"/>
          </a:xfrm>
          <a:prstGeom prst="rect">
            <a:avLst/>
          </a:prstGeom>
          <a:solidFill>
            <a:srgbClr val="e8021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12000" y="4149720"/>
            <a:ext cx="2736720" cy="1871640"/>
          </a:xfrm>
          <a:prstGeom prst="rect">
            <a:avLst/>
          </a:prstGeom>
          <a:solidFill>
            <a:srgbClr val="9900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2276640"/>
            <a:ext cx="2736720" cy="18716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12000" y="2276640"/>
            <a:ext cx="2736720" cy="187164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404640"/>
            <a:ext cx="2736720" cy="1872000"/>
          </a:xfrm>
          <a:prstGeom prst="rect">
            <a:avLst/>
          </a:prstGeom>
          <a:solidFill>
            <a:srgbClr val="9966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12000" y="404640"/>
            <a:ext cx="2736720" cy="187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2276640"/>
            <a:ext cx="2737080" cy="1871640"/>
          </a:xfrm>
          <a:prstGeom prst="rect">
            <a:avLst/>
          </a:prstGeom>
          <a:solidFill>
            <a:srgbClr val="ff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765000"/>
            <a:ext cx="12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4360" y="2924280"/>
            <a:ext cx="129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24360" y="1197000"/>
            <a:ext cx="12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2997360"/>
            <a:ext cx="129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32720" y="1197000"/>
            <a:ext cx="129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76360" y="549360"/>
            <a:ext cx="67644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093080" y="549360"/>
            <a:ext cx="67608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5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547640" y="2421000"/>
            <a:ext cx="67644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9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211640" y="2421000"/>
            <a:ext cx="67644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8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093080" y="4292640"/>
            <a:ext cx="67608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7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11640" y="620640"/>
            <a:ext cx="67644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6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140360" y="4365720"/>
            <a:ext cx="67608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4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547640" y="4221000"/>
            <a:ext cx="676440" cy="143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3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093080" y="2492280"/>
            <a:ext cx="67608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19:02:58Z</dcterms:created>
  <dc:creator>Helen</dc:creator>
  <dc:description/>
  <dc:language>en-US</dc:language>
  <cp:lastModifiedBy>Helen</cp:lastModifiedBy>
  <dcterms:modified xsi:type="dcterms:W3CDTF">2007-06-26T19:03:32Z</dcterms:modified>
  <cp:revision>1</cp:revision>
  <dc:subject/>
  <dc:title>Slide 1</dc:title>
</cp:coreProperties>
</file>